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7295-002E-408D-AD42-0289F8AE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6BE7-E409-43C9-A968-68711F75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A43D-5575-42C4-8392-E465DA59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785-EB2A-447F-ABD9-A6AB2DF35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78E-5195-41CA-8C8E-885AD0F3A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5BD-A9A4-41F6-913D-8D280D7A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1742-C1E9-4CCC-AD9F-A221182B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BA9-B15F-4376-AA06-6D18F410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2BFE-EF2E-4594-9959-F6F80AC3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57B-3113-4FA8-B257-F8FC39A1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043-C36A-4E13-87CB-9D6D0A89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5982-6B02-4A34-BAE4-2425AC91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A659-13A8-4B38-800A-C4C88BF2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F496-DAA2-49BF-9D4A-7B835FB7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B4F7-3906-43F6-B62F-8B4F5DD07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5360-4F0A-4040-8098-B2CFADD0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052-FFCA-4367-8A88-23DB7C47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5E3-A325-46C6-85AE-BA1909AF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91A6-DE3B-4B5D-8B13-5AAE45E3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55A1-6198-4D89-9BC2-90C00128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DF0A-2BAF-405F-9DEA-7B9AB0E2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5D8-2D5E-4BAB-867F-1AB6CD1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F9D-A1A0-4C3C-9004-2BA75ABF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373-7889-4479-93BD-EAE9CF9B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8876-059C-443F-BD67-93AF9E10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D12F-4D0C-4DB1-8BC4-8C6CA455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8C5B-F671-4487-A240-F2FCCECC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533-DAEF-43B3-B52F-AEB9465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B5C9-FA57-465F-9610-5DB5244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4E96-2EFC-4D50-B22A-EBDFACB1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88D3-B4F8-42D3-BF84-48F426C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B71-FEB6-4BEC-92F8-66912FF0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DFD2-74CE-4C1F-951F-A8AF451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4783-E37D-4369-B258-AA8210C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C8E-A59A-4AAE-A33B-7234D6B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976D-D799-4424-A313-5AFFE8CC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816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266652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816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4457880"/>
            <a:ext cx="2257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D08A-45CD-498F-ACB4-BB86615B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E18-AA32-47F3-9538-091603B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03B-C611-48F3-9E76-A5D774C2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32B-D1B8-40D1-814D-E1FA4A86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B8F-7E53-4746-8944-81015C9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9E7-F955-414C-9F17-9BD9AEF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9640" y="445788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110-6CD2-4B4B-9CD9-82DB65C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9640" y="2666520"/>
            <a:ext cx="34207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4457880"/>
            <a:ext cx="70102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EB5-6893-4278-8B2F-5AEFBFC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C8A-0CDB-4D06-9220-DFC99668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05CC-31DC-4DBD-B68C-F5D3D448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Brush Script MT"/>
              <a:ea typeface="Brush Script MT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Brush Script MT"/>
              <a:ea typeface="Brush Script MT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766960" cy="347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One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1219320" y="1828800"/>
            <a:ext cx="607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are usually found in a 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s students to recal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One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447920" y="1828800"/>
            <a:ext cx="5844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O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      Rec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Descri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Identif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Re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295280" y="533520"/>
            <a:ext cx="70866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wo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219320" y="1828800"/>
            <a:ext cx="607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w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ables students to process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ks students to make sense of the information they have gathe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371600" y="533520"/>
            <a:ext cx="655308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wo Ques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858680" cy="4496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219320" y="182880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w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1295280" y="53352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hree Questi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868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219320" y="1828800"/>
            <a:ext cx="6073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hre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hallenging for students to ask and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s students to go beyond the concepts they have learned and to apply what they have learn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831080" y="725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295280" y="53352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sta's Level Three Questi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859040" cy="44960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523880" y="1889280"/>
            <a:ext cx="6073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l Thre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rapol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y a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160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questions should reflec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1859040" cy="4496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992520" y="2362320"/>
            <a:ext cx="6176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. you don’t underst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want to discuss with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/tu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92160" y="4267080"/>
            <a:ext cx="637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. you think would app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an essay 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68480" y="581328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ps in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371600" y="457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3816c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a3816c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1143000" y="4572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43000" y="1676520"/>
            <a:ext cx="73915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own, in the sp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d at the bottom of the page, complete a 3 or 4 sentence summary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you wro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your no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286000" cy="203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14300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Let's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828800" y="22096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goes where on Cornell Not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286000" cy="203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523880" y="457200"/>
            <a:ext cx="6782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Cornell No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8068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162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895480" y="54100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summary down there on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18600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he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39160" y="1447920"/>
            <a:ext cx="66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thinking ski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800" y="2819520"/>
            <a:ext cx="681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what is said in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39520" y="4114800"/>
            <a:ext cx="8306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set of notes can help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on assignments and prepare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s outside of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086600" y="190512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6560" y="1523880"/>
            <a:ext cx="754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allow students to hel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ch other problem sol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15840" y="2895480"/>
            <a:ext cx="775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help students organ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rocess data and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14400" y="4267080"/>
            <a:ext cx="7772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notes help students recall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ting them to process their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14600" y="236232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ri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a great too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 learn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9216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19328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122280" y="4898880"/>
            <a:ext cx="588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 to 4 sentence summary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, in the Summary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8672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2c0b"/>
                                </p:to>
                              </p:animCl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1295280" y="533520"/>
            <a:ext cx="67820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Practice Ti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28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065600" y="2027160"/>
            <a:ext cx="540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get out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t of Corn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 paper and 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y to practice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371600" y="457200"/>
            <a:ext cx="64422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1600200"/>
            <a:ext cx="76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large, right h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, take notes li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normally would. 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use any style of note-taking you wish: outline format, narrative format, symbols, short hand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010280" y="1676520"/>
            <a:ext cx="1702080" cy="182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447920" y="533520"/>
            <a:ext cx="64418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1523880"/>
            <a:ext cx="7010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e notes with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 about what you wr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why. Look for gaps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ed inform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h partners should fe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to add to their no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660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371600" y="533520"/>
            <a:ext cx="644220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816c"/>
                </a:solidFill>
                <a:latin typeface="Arial"/>
              </a:rPr>
              <a:t>Assignment &amp; Instru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3816c"/>
              </a:solidFill>
              <a:latin typeface="Arial"/>
              <a:ea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85904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143000" y="1523880"/>
            <a:ext cx="6019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your partner(s), create questions in the left hand column.  These questions should elicit critical thinking skills:  Levels 2 and 3 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a’s Levels of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3:31:44Z</dcterms:created>
  <dc:creator>Michael Solis</dc:creator>
  <dc:description/>
  <dc:language>en-US</dc:language>
  <cp:lastModifiedBy>shmurray</cp:lastModifiedBy>
  <dcterms:modified xsi:type="dcterms:W3CDTF">2011-06-13T20:01:15Z</dcterms:modified>
  <cp:revision>2</cp:revision>
  <dc:subject/>
  <dc:title> </dc:title>
</cp:coreProperties>
</file>